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01E3-02B8-4F4B-BB0D-99DB659A5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C3B6-0872-473B-84C4-C87608A45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1D43-6A37-4185-8AAA-84CCAEA8A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41E4-E9C9-4B71-ABB7-2E798297A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3FD8-A2E2-4672-8204-63521EB4C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0E4B-4904-4C5C-BD92-EEDE7049A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E483-9835-49B2-92A9-5E74A9612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7A7B-C72E-47C1-A9FF-03DB8F96E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9E7F-57CF-4CD8-8F77-4C92D354E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C386-8CFC-4566-A1F2-342EE2671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D7679-C4A6-4230-BD29-52651A917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1607-575E-417E-ADCC-6CFC1D745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532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664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532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664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6B4C9-BEA4-42C2-A8DC-EEC98D163F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372E7-EA89-4C9D-AD96-1BA8BA7BD3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86642-2C38-4417-BFE0-DD50E1595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55197-65DA-4370-B17A-99F2226EF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DA8DE-C608-42F6-904D-4B2CA18FC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7BD31-6637-4D53-84BF-91BFA89D1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7B3BA-E906-44BA-A14B-9C6137416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5D446-3D16-408D-9A51-BF74490A9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A2409-D9B5-4447-B0FF-6B17CF3C3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-</a:t>
            </a:r>
            <a:fld id="{49555DF3-9CFB-4B66-80C1-1ACD7D2FB9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68580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-</a:t>
            </a:r>
            <a:fld id="{972B66B5-3E7B-4BAB-BE3E-EBC05D6938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4360" y="17524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direct object expres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wh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wh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ction is done. In the example below, the indirect object answers this question: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À qui parle Gisèl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whom does Gisèle speak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2_01_p204a"/>
          <p:cNvPicPr/>
          <p:nvPr/>
        </p:nvPicPr>
        <p:blipFill>
          <a:blip r:embed="rId1"/>
          <a:stretch/>
        </p:blipFill>
        <p:spPr>
          <a:xfrm>
            <a:off x="3162240" y="3352680"/>
            <a:ext cx="2819520" cy="126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2_01_p204b"/>
          <p:cNvPicPr/>
          <p:nvPr/>
        </p:nvPicPr>
        <p:blipFill>
          <a:blip r:embed="rId2"/>
          <a:stretch/>
        </p:blipFill>
        <p:spPr>
          <a:xfrm>
            <a:off x="1219320" y="4648320"/>
            <a:ext cx="685800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68580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-</a:t>
            </a:r>
            <a:fld id="{6AA8D7FA-0C7A-422B-BE10-2ECA653429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4360" y="17524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rect object pronouns replace indirect object nou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12_01_p204d"/>
          <p:cNvPicPr/>
          <p:nvPr/>
        </p:nvPicPr>
        <p:blipFill>
          <a:blip r:embed="rId1"/>
          <a:stretch/>
        </p:blipFill>
        <p:spPr>
          <a:xfrm>
            <a:off x="1914480" y="4038480"/>
            <a:ext cx="5313240" cy="2386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12_01_p204c"/>
          <p:cNvPicPr/>
          <p:nvPr/>
        </p:nvPicPr>
        <p:blipFill>
          <a:blip r:embed="rId2"/>
          <a:stretch/>
        </p:blipFill>
        <p:spPr>
          <a:xfrm>
            <a:off x="2133720" y="2362320"/>
            <a:ext cx="479412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68580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-</a:t>
            </a:r>
            <a:fld id="{655E2E7C-9E5B-4B98-9F45-421CA595B4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4360" y="17524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irect object pronoun usually precedes the conjugated ver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negative statement, place the indirect object pronoun betwee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conjugated ver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12_01_p204f"/>
          <p:cNvPicPr/>
          <p:nvPr/>
        </p:nvPicPr>
        <p:blipFill>
          <a:blip r:embed="rId1"/>
          <a:stretch/>
        </p:blipFill>
        <p:spPr>
          <a:xfrm>
            <a:off x="1066680" y="4876920"/>
            <a:ext cx="6248520" cy="1258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12_01_p204e"/>
          <p:cNvPicPr/>
          <p:nvPr/>
        </p:nvPicPr>
        <p:blipFill>
          <a:blip r:embed="rId2"/>
          <a:stretch/>
        </p:blipFill>
        <p:spPr>
          <a:xfrm>
            <a:off x="1143000" y="2819520"/>
            <a:ext cx="67816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-</a:t>
            </a:r>
            <a:fld id="{BE934A50-879F-4AC1-BA53-17F99CCC3E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4360" y="17524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infinitive follows a conjugated verb, the indirect object pronoun precedes the infin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12_01_p204g"/>
          <p:cNvPicPr/>
          <p:nvPr/>
        </p:nvPicPr>
        <p:blipFill>
          <a:blip r:embed="rId1"/>
          <a:stretch/>
        </p:blipFill>
        <p:spPr>
          <a:xfrm>
            <a:off x="1600200" y="3048120"/>
            <a:ext cx="563868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-</a:t>
            </a:r>
            <a:fld id="{C4CCD6DB-163F-4656-A72F-C77C650C40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2_01_p205a"/>
          <p:cNvPicPr/>
          <p:nvPr/>
        </p:nvPicPr>
        <p:blipFill>
          <a:blip r:embed="rId1"/>
          <a:stretch/>
        </p:blipFill>
        <p:spPr>
          <a:xfrm>
            <a:off x="990720" y="2133720"/>
            <a:ext cx="70866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68580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-</a:t>
            </a:r>
            <a:fld id="{D465F361-0397-40BF-9096-85B126FD7E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17524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irect object pronouns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com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t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fore a verb beginning with a vowel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12_01_p205b"/>
          <p:cNvPicPr/>
          <p:nvPr/>
        </p:nvPicPr>
        <p:blipFill>
          <a:blip r:embed="rId1"/>
          <a:stretch/>
        </p:blipFill>
        <p:spPr>
          <a:xfrm>
            <a:off x="2209680" y="2971800"/>
            <a:ext cx="47689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68580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-</a:t>
            </a:r>
            <a:fld id="{302A0802-888E-48F8-AA4A-6759F14825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4360" y="17524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Disjunctive pro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junctive pronouns can also be used alone or in phrases without a ver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12_01_p205c"/>
          <p:cNvPicPr/>
          <p:nvPr/>
        </p:nvPicPr>
        <p:blipFill>
          <a:blip r:embed="rId1"/>
          <a:stretch/>
        </p:blipFill>
        <p:spPr>
          <a:xfrm>
            <a:off x="1523880" y="2438280"/>
            <a:ext cx="6019920" cy="1320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12_01_p205d"/>
          <p:cNvPicPr/>
          <p:nvPr/>
        </p:nvPicPr>
        <p:blipFill>
          <a:blip r:embed="rId2"/>
          <a:stretch/>
        </p:blipFill>
        <p:spPr>
          <a:xfrm>
            <a:off x="1905120" y="5334120"/>
            <a:ext cx="533376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68580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-</a:t>
            </a:r>
            <a:fld id="{D68E43A1-FFE3-4312-B06F-5FA49507C5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360" y="17524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Disjunctive pronouns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junctive pronouns emphasize the person to whom  they ref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a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self, ourselve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c., ad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même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the disjunctive pro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12_01_p205f"/>
          <p:cNvPicPr/>
          <p:nvPr/>
        </p:nvPicPr>
        <p:blipFill>
          <a:blip r:embed="rId1"/>
          <a:stretch/>
        </p:blipFill>
        <p:spPr>
          <a:xfrm>
            <a:off x="1752480" y="5181480"/>
            <a:ext cx="5918400" cy="1014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12_01_p205e"/>
          <p:cNvPicPr/>
          <p:nvPr/>
        </p:nvPicPr>
        <p:blipFill>
          <a:blip r:embed="rId2"/>
          <a:stretch/>
        </p:blipFill>
        <p:spPr>
          <a:xfrm>
            <a:off x="1752480" y="3124080"/>
            <a:ext cx="556128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68580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-</a:t>
            </a:r>
            <a:fld id="{FCAC59E3-CBBC-433A-8E40-E8AA1DDD32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essayez"/>
          <p:cNvPicPr/>
          <p:nvPr/>
        </p:nvPicPr>
        <p:blipFill>
          <a:blip r:embed="rId1"/>
          <a:stretch/>
        </p:blipFill>
        <p:spPr>
          <a:xfrm>
            <a:off x="533520" y="1371600"/>
            <a:ext cx="8048520" cy="51069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4"/>
          <p:cNvSpPr/>
          <p:nvPr/>
        </p:nvSpPr>
        <p:spPr>
          <a:xfrm>
            <a:off x="961920" y="1539720"/>
            <a:ext cx="735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1600200">
              <a:spcBef>
                <a:spcPts val="689"/>
              </a:spcBef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étez les phrases avec le pronom d’objet indirect appropri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19000" y="2590920"/>
          <a:ext cx="7620120" cy="338292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342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________ montres tes photos?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c, je ________ donne ma nouvelle adresse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, fam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________ posez de bonnes questions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________ avons demandé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________ achète une nouvelle robe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, form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parents ________ ont acheté un tailleur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vais ________ téléphoner à dix heures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 va ________ prêter sa jupe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63"/>
          <p:cNvSpPr/>
          <p:nvPr/>
        </p:nvSpPr>
        <p:spPr>
          <a:xfrm>
            <a:off x="1762200" y="2590920"/>
            <a:ext cx="76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83c8"/>
                </a:solidFill>
                <a:latin typeface="Comic Sans MS"/>
              </a:rPr>
              <a:t>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pyright © 2010 Vista Higher Learning. All rights reserved.</dc:creator>
  <dc:description/>
  <cp:keywords/>
  <dc:language>en-US</dc:language>
  <cp:lastModifiedBy>marilaur</cp:lastModifiedBy>
  <dcterms:modified xsi:type="dcterms:W3CDTF">2013-04-25T02:08:01Z</dcterms:modified>
  <cp:revision>22</cp:revision>
  <dc:subject>Structures 12.1</dc:subject>
  <dc:title>PROMENADES</dc:title>
</cp:coreProperties>
</file>